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T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358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T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1FA3-1233-420F-89D1-744F412CFFA2}" type="slidenum">
              <a:rPr b="0" lang="en-T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0F2C-EE06-4A75-BEF4-DD79946EA8FF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4E5D-6979-4AEE-8BA4-8C6D4990BB9A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63ED-142F-4493-A2B9-E7015216F366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CB4B-3AB2-4923-8CC7-526BEBE75A13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3B95-2CF5-44B1-A44B-B19A64452915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1BF2-50C1-4F64-AC71-147E6338C9B2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6F11-885C-4BAA-B22E-DAE1C64EFA46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A893-4BC7-45E7-9099-111835037DF9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FF5C-49A0-4F31-9AB9-07476CE4C33E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EA44-30F3-4467-B506-EB957A350C34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87280" y="2415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6092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4536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17648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6092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4536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7280" y="2415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2415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35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9"/>
          <p:cNvSpPr/>
          <p:nvPr/>
        </p:nvSpPr>
        <p:spPr>
          <a:xfrm>
            <a:off x="3456000" y="1987560"/>
            <a:ext cx="5724360" cy="1008000"/>
          </a:xfrm>
          <a:prstGeom prst="rect">
            <a:avLst/>
          </a:prstGeom>
          <a:solidFill>
            <a:srgbClr val="513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7280" y="2415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35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A_xMSCZ8SQ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oolmathsgames.u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olmathsgames.us/" TargetMode="External"/><Relationship Id="rId2" Type="http://schemas.openxmlformats.org/officeDocument/2006/relationships/hyperlink" Target="http://www.arcademicskillbuilders.com/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611280" y="1628640"/>
            <a:ext cx="8532720" cy="1368720"/>
          </a:xfrm>
          <a:prstGeom prst="rect">
            <a:avLst/>
          </a:prstGeom>
          <a:solidFill>
            <a:srgbClr val="51358c"/>
          </a:solidFill>
          <a:ln w="25560">
            <a:solidFill>
              <a:srgbClr val="392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803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T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gital Mathematics Games in Education</a:t>
            </a:r>
            <a:endParaRPr b="0" lang="en-US" sz="28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95280" y="6161040"/>
            <a:ext cx="604836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1800" spc="-1" strike="noStrike">
                <a:solidFill>
                  <a:srgbClr val="262626"/>
                </a:solidFill>
                <a:latin typeface="Arial"/>
              </a:rPr>
              <a:t>Sandra Figaro Hen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330066"/>
                </a:solidFill>
                <a:latin typeface="Impact"/>
              </a:rPr>
              <a:t>School of Education, UW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" name="Content Placeholder 10" descr="UWI-logo1.jpg"/>
          <p:cNvPicPr/>
          <p:nvPr/>
        </p:nvPicPr>
        <p:blipFill>
          <a:blip r:embed="rId1"/>
          <a:stretch/>
        </p:blipFill>
        <p:spPr>
          <a:xfrm>
            <a:off x="0" y="0"/>
            <a:ext cx="684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364464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ture resear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44120" y="2708280"/>
            <a:ext cx="764388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2800" spc="-1" strike="noStrike">
                <a:solidFill>
                  <a:srgbClr val="4d4d4d"/>
                </a:solidFill>
                <a:latin typeface="Arial"/>
              </a:rPr>
              <a:t>Thank you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The Context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2184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000" y="2205000"/>
            <a:ext cx="82184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The</a:t>
            </a:r>
            <a:r>
              <a:rPr b="0" i="1" lang="en-TT" sz="2400" spc="-1" strike="noStrike">
                <a:solidFill>
                  <a:srgbClr val="4d4d4d"/>
                </a:solidFill>
                <a:latin typeface="Arial"/>
              </a:rPr>
              <a:t>  New Media Consortium, NMC Horizon Report  2012 K-12 Edition </a:t>
            </a: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is a collaborative research effort between the NMC, the Consortium of School Networking (CoSN), and the International Society for Technology in Education (ISTE). 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The </a:t>
            </a:r>
            <a:r>
              <a:rPr b="0" i="1" lang="en-TT" sz="2400" spc="-1" strike="noStrike">
                <a:solidFill>
                  <a:srgbClr val="4d4d4d"/>
                </a:solidFill>
                <a:latin typeface="Arial"/>
              </a:rPr>
              <a:t>NMC Horizon Report</a:t>
            </a: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 series discusses the top emerging technologies, trends, and challeng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The Context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218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e Horizon Repor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2174760"/>
            <a:ext cx="82184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Horizon Report by leaders in education and technology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Training in digital literacy skills and techniques is rare in teacher education and school district professional development program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Digital media literacy  is not the norm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TT" sz="24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1" lang="en-TT" sz="2400" spc="-1" strike="noStrike">
                <a:solidFill>
                  <a:srgbClr val="4d4d4d"/>
                </a:solidFill>
                <a:latin typeface="Arial"/>
              </a:rPr>
              <a:t>Digital literacy is less about tools and more about thinking.” Horizon Report 2012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9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TT" sz="9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TT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youtube.com/watch?v=8A_xMSCZ8SQ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Key Trends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000" y="2174760"/>
            <a:ext cx="82184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21</a:t>
            </a:r>
            <a:r>
              <a:rPr b="0" lang="en-TT" sz="2000" spc="-1" strike="noStrike" baseline="30000">
                <a:solidFill>
                  <a:srgbClr val="4d4d4d"/>
                </a:solidFill>
                <a:latin typeface="Arial"/>
              </a:rPr>
              <a:t>st</a:t>
            </a: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 Century students expect to be able to learn, study  and work whenever and wherever they want to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The technologies we use are increasingly cloud-based, and our notions of IT support are decentralized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The  academic environment is increasingly collaborative, driving changes in the way students’ projects are structured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The abundance of resources and relationships made easily accessible via the Internet is increasingly challenging us to revisit our roles as educator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Education paradigms are shifting to include – ubiquitous learning: online learning, hybrid learning and collaborative models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63360" y="-446040"/>
            <a:ext cx="1924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77151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Role and Benefits of</a:t>
            </a:r>
            <a:br>
              <a:rPr sz="3600"/>
            </a:b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 Mathematics Games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1300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Fun:  Practice basic details of arithmetic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Solving Problems: Act in response to their adversary's move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Strategising: Utilizing video games for math enable pupils to strategize their moves and make use of their know-how of maths to emerge victorious in the video game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Social Skills: Cope up with genuine-everyday group life scenarios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Better Results:  Students interact to function in team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Positivity: Establish a positive outlook, without anxiety  towards an issue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A variety of Levels: These allow for children to develop when passing or conquering  one stage soon after one more. A child might recognize a concept the very first time she plays the game. As time passes, the concept is even greater recognized. She may possibly consolidate ideas that have been learned earlier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Independence:  Students reading through the guidelines of the game is all the advice he need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Evaluation: The finest element about learning via video games is the course of action of evaluation. </a:t>
            </a:r>
            <a:r>
              <a:rPr b="0" lang="en-TT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ool maths games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The Landscape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2636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2400" spc="-1" strike="noStrike">
                <a:solidFill>
                  <a:srgbClr val="4d4d4d"/>
                </a:solidFill>
                <a:latin typeface="Arial"/>
              </a:rPr>
              <a:t>Time-to-Adoption Horizon: One Year or Les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6000" y="2349360"/>
            <a:ext cx="4041720" cy="9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7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2400" spc="-1" strike="noStrike">
                <a:solidFill>
                  <a:srgbClr val="4d4d4d"/>
                </a:solidFill>
                <a:latin typeface="Arial"/>
              </a:rPr>
              <a:t>Time-to-Adoption Horizon: Two to Three Yea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4720" y="3573000"/>
            <a:ext cx="404172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Game-Based Learning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Personal Learning Environmen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Open Cont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63360" y="-446040"/>
            <a:ext cx="1924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000" y="3573000"/>
            <a:ext cx="404172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Collaborative Environmen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Mobiles and App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Tablet Computing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Cloud Computing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The Landscape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3640" y="2133360"/>
            <a:ext cx="489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2400" spc="-1" strike="noStrike">
                <a:solidFill>
                  <a:srgbClr val="4d4d4d"/>
                </a:solidFill>
                <a:latin typeface="Arial"/>
              </a:rPr>
              <a:t>Time-to-Adoption Horizon: Four to Five Yea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Learning Analytic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Personal Learning Environmen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Augmented Realit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Natural User Interfac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Semantic Application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Tools for Assessing 21st Century Learning Skills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8" name="Picture 2" descr="C:\Users\sfigaro\Pictures\MLearninPresentation\2011-10-06 19.44.23.jpg"/>
          <p:cNvPicPr/>
          <p:nvPr/>
        </p:nvPicPr>
        <p:blipFill>
          <a:blip r:embed="rId1"/>
          <a:stretch/>
        </p:blipFill>
        <p:spPr>
          <a:xfrm>
            <a:off x="5559480" y="1773360"/>
            <a:ext cx="3108240" cy="92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95280" y="10584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TT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4920" y="2060280"/>
            <a:ext cx="460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Math Games for all ages: 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coolmathsgames.us/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arcademicskillbuilders.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http://www.bbc.co.uk/bitesize/ks2/maths/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https://www.youtube.com/watch?v=v6oJ5rw9my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https://www.youtube.com/watch?v=q5IzEnYXJt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http://www.simcity.com/en_US/game/overvie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http://minecraftforfreeonline.net/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1" name="Picture 3" descr="C:\Users\sfigaro\Pictures\MLearninPresentation\GirlOnPhoneGuyByComputer.jpg"/>
          <p:cNvPicPr/>
          <p:nvPr/>
        </p:nvPicPr>
        <p:blipFill>
          <a:blip r:embed="rId3"/>
          <a:stretch/>
        </p:blipFill>
        <p:spPr>
          <a:xfrm>
            <a:off x="5132520" y="1914480"/>
            <a:ext cx="3389040" cy="907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sfigaro\AppData\Local\Microsoft\Windows\Temporary Internet Files\Low\Content.IE5\KVQQUW72\2011-10-06 19.51.50[1].jpg"/>
          <p:cNvPicPr/>
          <p:nvPr/>
        </p:nvPicPr>
        <p:blipFill>
          <a:blip r:embed="rId1"/>
          <a:stretch/>
        </p:blipFill>
        <p:spPr>
          <a:xfrm>
            <a:off x="5059440" y="2279520"/>
            <a:ext cx="3560760" cy="7175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50560" y="2277720"/>
            <a:ext cx="45370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ECCE-  http://www.prometheanplanet.com/en-us/Search/resources/resource-type/games/grade/early-childhood-pre-school%e2%80%93kindergarten/subject-area/math/country/united-states/language/english/?SortField=relevance&amp;RecsPerPage=12&amp;ViewType=GridView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Secondary-  http://www.prometheanplanet.com/en-us/Search/resources/resource-type/games/grade/11-12/subject-area/math/country/unitedstates/language/english/?SortField=relevance&amp;RecsPerPage=12&amp;ViewType=GridView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Title 1"/>
          <p:cNvSpPr/>
          <p:nvPr/>
        </p:nvSpPr>
        <p:spPr>
          <a:xfrm>
            <a:off x="2124000" y="836640"/>
            <a:ext cx="6553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rch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900"/>
            </a:br>
            <a:endParaRPr b="0" lang="en-US" sz="27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23:46:23Z</dcterms:created>
  <dc:creator>sfigaro</dc:creator>
  <dc:description/>
  <dc:language>en-US</dc:language>
  <cp:lastModifiedBy>soestaff</cp:lastModifiedBy>
  <dcterms:modified xsi:type="dcterms:W3CDTF">2012-06-22T15:16:01Z</dcterms:modified>
  <cp:revision>89</cp:revision>
  <dc:subject/>
  <dc:title>Slide 1</dc:title>
</cp:coreProperties>
</file>