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T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2366-7218-4EFE-8EB2-7581E64E737B}" type="slidenum">
              <a:rPr b="0" lang="en-T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14FB-D4CA-4C82-81A0-E117F7611038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093-7581-48AA-A60A-71A04BEF4806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6AE6-0171-4B26-B908-B3A1FDA35E97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5421-C8FF-49C5-B1F8-22CB1FFAC2A0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0E2-B974-49FE-B618-6A9652A56102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0B28-6B22-43E2-93FB-65B3CD7FD077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BD4A-3F38-4AA7-AFC3-331CB799A271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11BE-F4CB-4D67-B919-F75396F02959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EA73-47B5-418C-8796-0826F9ADD6C5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T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DD8-3954-4843-ABBD-11BA6698F2C9}" type="slidenum">
              <a:rPr b="0" lang="en-TT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3456000" y="1987560"/>
            <a:ext cx="5724360" cy="1008000"/>
          </a:xfrm>
          <a:prstGeom prst="rect">
            <a:avLst/>
          </a:prstGeom>
          <a:solidFill>
            <a:srgbClr val="513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_xMSCZ8S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olmathsgames.us/" TargetMode="External"/><Relationship Id="rId2" Type="http://schemas.openxmlformats.org/officeDocument/2006/relationships/hyperlink" Target="http://www.arcademicskillbuilder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11280" y="1628640"/>
            <a:ext cx="8532720" cy="1368720"/>
          </a:xfrm>
          <a:prstGeom prst="rect">
            <a:avLst/>
          </a:prstGeom>
          <a:solidFill>
            <a:srgbClr val="51358c"/>
          </a:solidFill>
          <a:ln w="25560">
            <a:solidFill>
              <a:srgbClr val="392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T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gital Mathematics Games in Education</a:t>
            </a:r>
            <a:endParaRPr b="0" lang="en-US" sz="28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95280" y="6161040"/>
            <a:ext cx="60483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1800" spc="-1" strike="noStrike">
                <a:solidFill>
                  <a:srgbClr val="262626"/>
                </a:solidFill>
                <a:latin typeface="Arial"/>
              </a:rPr>
              <a:t>Sandra Figaro Hen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330066"/>
                </a:solidFill>
                <a:latin typeface="Impact"/>
              </a:rPr>
              <a:t>School of Education, UW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Content Placeholder 10" descr="UWI-logo1.jpg"/>
          <p:cNvPicPr/>
          <p:nvPr/>
        </p:nvPicPr>
        <p:blipFill>
          <a:blip r:embed="rId1"/>
          <a:stretch/>
        </p:blipFill>
        <p:spPr>
          <a:xfrm>
            <a:off x="0" y="0"/>
            <a:ext cx="68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3644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re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44120" y="270828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220500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  New Media Consortium, NMC Horizon Report  2012 K-12 Edition 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is a collaborative research effort between the NMC, the Consortium of School Networking (CoSN), and the International Society for Technology in Education (ISTE). 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he </a:t>
            </a:r>
            <a:r>
              <a:rPr b="0" i="1" lang="en-TT" sz="2400" spc="-1" strike="noStrike">
                <a:solidFill>
                  <a:srgbClr val="4d4d4d"/>
                </a:solidFill>
                <a:latin typeface="Arial"/>
              </a:rPr>
              <a:t>NMC Horizon Report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series discusses the top emerging technologies, trends, and challeng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Contex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e Horizon Repor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Horizon Report by leaders in education and technology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raining in digital literacy skills and techniques is rare in teacher education and school district professional development program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Digital media literacy  is not the norm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Digital literacy is less about tools and more about thinking.” Horizon Report 201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9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TT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youtube.com/watch?v=8A_xMSCZ8SQ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Key Trend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2174760"/>
            <a:ext cx="8218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21</a:t>
            </a:r>
            <a:r>
              <a:rPr b="0" lang="en-TT" sz="20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 Century students expect to be able to learn, study  and work whenever and wherever they want to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technologies we use are increasingly cloud-based, and our notions of IT support are decentraliz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 academic environment is increasingly collaborative, driving changes in the way students’ projects are structur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The abundance of resources and relationships made easily accessible via the Internet is increasingly challenging us to revisit our roles as educato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Education paradigms are shifting to include – ubiquitous learning: online learning, hybrid learning and collaborative model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7715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Role and Benefits of</a:t>
            </a:r>
            <a:br>
              <a:rPr sz="3600"/>
            </a:b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 Mathematics Games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Fun:  Practice basic details of arithmetic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lving Problems: Act in response to their adversary's mov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trategising: Utilizing video games for math enable pupils to strategize their moves and make use of their know-how of maths to emerge victorious in the video game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Social Skills: Cope up with genuine-everyday group life scenario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Better Results:  Students interact to function in team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Positivity: Establish a positive outlook, without anxiety  towards an issue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A variety of Levels: These allow for children to develop when passing or conquering  one stage soon after one more. A child might recognize a concept the very first time she plays the game. As time passes, the concept is even greater recognized. She may possibly consolidate ideas that have been learned earlier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Independence:  Students reading through the guidelines of the game is all the advice he need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Evaluation: The finest element about learning via video games is the course of action of evaluation. </a:t>
            </a:r>
            <a:r>
              <a:rPr b="0" lang="en-T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ol maths games</a:t>
            </a:r>
            <a:r>
              <a:rPr b="0" lang="en-TT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One Year or Les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6000" y="2349360"/>
            <a:ext cx="404172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Two to Thre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3573000"/>
            <a:ext cx="4041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Game-Based Learning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Open Cont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63360" y="-446040"/>
            <a:ext cx="19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3573000"/>
            <a:ext cx="404172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ollaborative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Mobiles and App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ablet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3600" spc="-1" strike="noStrike">
                <a:solidFill>
                  <a:srgbClr val="ffffff"/>
                </a:solidFill>
                <a:latin typeface="Arial"/>
              </a:rPr>
              <a:t>The Landscape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2133360"/>
            <a:ext cx="489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TT" sz="2400" spc="-1" strike="noStrike">
                <a:solidFill>
                  <a:srgbClr val="4d4d4d"/>
                </a:solidFill>
                <a:latin typeface="Arial"/>
              </a:rPr>
              <a:t>Time-to-Adoption Horizon: Four to Five Yea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Learning Analytic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Personal Learning Environ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Augmented Realit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Natural User Interfac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Semantic Application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4d4d4d"/>
                </a:solidFill>
                <a:latin typeface="Arial"/>
              </a:rPr>
              <a:t>Tools for Assessing 21st Century Learning Skill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sfigaro\Pictures\MLearninPresentation\2011-10-06 19.44.23.jpg"/>
          <p:cNvPicPr/>
          <p:nvPr/>
        </p:nvPicPr>
        <p:blipFill>
          <a:blip r:embed="rId1"/>
          <a:stretch/>
        </p:blipFill>
        <p:spPr>
          <a:xfrm>
            <a:off x="5559480" y="1773360"/>
            <a:ext cx="3108240" cy="92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95280" y="10584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TT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206028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Math Games for all ages: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olmathsgames.u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rcademicskillbuilders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bbc.co.uk/bitesize/ks2/maths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v6oJ5rw9my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s://www.youtube.com/watch?v=q5IzEnYXJ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www.simcity.com/en_US/game/overvie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4d4d4d"/>
                </a:solidFill>
                <a:latin typeface="Arial"/>
              </a:rPr>
              <a:t>http://minecraftforfreeonline.net/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3" descr="C:\Users\sfigaro\Pictures\MLearninPresentation\GirlOnPhoneGuyByComputer.jpg"/>
          <p:cNvPicPr/>
          <p:nvPr/>
        </p:nvPicPr>
        <p:blipFill>
          <a:blip r:embed="rId3"/>
          <a:stretch/>
        </p:blipFill>
        <p:spPr>
          <a:xfrm>
            <a:off x="5132520" y="1914480"/>
            <a:ext cx="3389040" cy="907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sfigaro\AppData\Local\Microsoft\Windows\Temporary Internet Files\Low\Content.IE5\KVQQUW72\2011-10-06 19.51.50[1].jpg"/>
          <p:cNvPicPr/>
          <p:nvPr/>
        </p:nvPicPr>
        <p:blipFill>
          <a:blip r:embed="rId1"/>
          <a:stretch/>
        </p:blipFill>
        <p:spPr>
          <a:xfrm>
            <a:off x="5059440" y="2279520"/>
            <a:ext cx="3560760" cy="7175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0560" y="2277720"/>
            <a:ext cx="4537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CCE-  http://www.prometheanplanet.com/en-us/Search/resources/resource-type/games/grade/early-childhood-pre-school%e2%80%93kindergarten/subject-area/math/country/united-states/language/english/?SortField=relevance&amp;RecsPerPage=12&amp;ViewType=GridView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Secondary-  http://www.prometheanplanet.com/en-us/Search/resources/resource-type/games/grade/11-12/subject-area/math/country/unitedstates/language/english/?SortField=relevance&amp;RecsPerPage=12&amp;ViewType=GridVie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2124000" y="836640"/>
            <a:ext cx="6553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c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900"/>
            </a:br>
            <a:endParaRPr b="0" lang="en-US" sz="2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3:46:23Z</dcterms:created>
  <dc:creator>sfigaro</dc:creator>
  <dc:description/>
  <dc:language>en-US</dc:language>
  <cp:lastModifiedBy>soestaff</cp:lastModifiedBy>
  <dcterms:modified xsi:type="dcterms:W3CDTF">2012-06-22T15:16:01Z</dcterms:modified>
  <cp:revision>89</cp:revision>
  <dc:subject/>
  <dc:title>Slide 1</dc:title>
</cp:coreProperties>
</file>