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T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358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T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B7248-8BF3-411A-AABF-B29EFC980A63}" type="slidenum">
              <a:rPr b="0" lang="en-T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T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F12AE-DF4A-4F70-991F-BA423B558CA7}" type="slidenum">
              <a:rPr b="0" lang="en-TT" sz="1200" spc="-1" strike="noStrike">
                <a:solidFill>
                  <a:srgbClr val="4d4d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T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67C83-3870-452D-905E-2A92A022CB9D}" type="slidenum">
              <a:rPr b="0" lang="en-TT" sz="1200" spc="-1" strike="noStrike">
                <a:solidFill>
                  <a:srgbClr val="4d4d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T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F365E-E52B-49D7-8082-805556604BD7}" type="slidenum">
              <a:rPr b="0" lang="en-TT" sz="1200" spc="-1" strike="noStrike">
                <a:solidFill>
                  <a:srgbClr val="4d4d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T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CE166-D6E5-4D15-8753-4B7041120072}" type="slidenum">
              <a:rPr b="0" lang="en-TT" sz="1200" spc="-1" strike="noStrike">
                <a:solidFill>
                  <a:srgbClr val="4d4d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T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44EE2-AEFA-4C1C-889A-EA7A6B7A90E8}" type="slidenum">
              <a:rPr b="0" lang="en-TT" sz="1200" spc="-1" strike="noStrike">
                <a:solidFill>
                  <a:srgbClr val="4d4d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T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A2542-75A8-4088-A1B2-3BFE9A709CD7}" type="slidenum">
              <a:rPr b="0" lang="en-TT" sz="1200" spc="-1" strike="noStrike">
                <a:solidFill>
                  <a:srgbClr val="4d4d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T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54E07-449D-49CF-A5DB-403ADA29A33D}" type="slidenum">
              <a:rPr b="0" lang="en-TT" sz="1200" spc="-1" strike="noStrike">
                <a:solidFill>
                  <a:srgbClr val="4d4d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T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08AF4-6FE2-43EE-9D24-B2B86476393E}" type="slidenum">
              <a:rPr b="0" lang="en-TT" sz="1200" spc="-1" strike="noStrike">
                <a:solidFill>
                  <a:srgbClr val="4d4d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T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1E914-BF97-4902-AC7C-22362EEE2974}" type="slidenum">
              <a:rPr b="0" lang="en-TT" sz="1200" spc="-1" strike="noStrike">
                <a:solidFill>
                  <a:srgbClr val="4d4d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T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DE845-406B-407F-8E21-AFE533C0AAF2}" type="slidenum">
              <a:rPr b="0" lang="en-TT" sz="1200" spc="-1" strike="noStrike">
                <a:solidFill>
                  <a:srgbClr val="4d4d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764352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176480" y="4801320"/>
            <a:ext cx="764352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932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6480" y="480132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93280" y="480132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60920" y="299700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45360" y="299700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176480" y="480132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60920" y="480132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45360" y="480132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76480" y="2997000"/>
            <a:ext cx="7643520" cy="345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764352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372996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93280" y="2997000"/>
            <a:ext cx="372996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187280" y="2415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93280" y="2997000"/>
            <a:ext cx="372996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176480" y="480132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176480" y="2997000"/>
            <a:ext cx="7643520" cy="345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372996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932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093280" y="480132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932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6480" y="4801320"/>
            <a:ext cx="764352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764352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176480" y="4801320"/>
            <a:ext cx="764352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932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76480" y="480132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093280" y="480132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60920" y="299700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345360" y="299700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176480" y="480132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760920" y="480132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345360" y="480132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764352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372996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93280" y="2997000"/>
            <a:ext cx="372996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187280" y="2415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93280" y="2997000"/>
            <a:ext cx="372996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176480" y="480132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372996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932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93280" y="480132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932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76480" y="4801320"/>
            <a:ext cx="764352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2415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358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6480" y="2997000"/>
            <a:ext cx="764352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085760" indent="-217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519920" indent="-21708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1954440" indent="-21708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1954440" indent="-21708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1954440" indent="-21708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9"/>
          <p:cNvSpPr/>
          <p:nvPr/>
        </p:nvSpPr>
        <p:spPr>
          <a:xfrm>
            <a:off x="3456000" y="1987560"/>
            <a:ext cx="5724360" cy="1008000"/>
          </a:xfrm>
          <a:prstGeom prst="rect">
            <a:avLst/>
          </a:prstGeom>
          <a:solidFill>
            <a:srgbClr val="5135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7280" y="2415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358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76480" y="2997000"/>
            <a:ext cx="764352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085760" indent="-217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519920" indent="-21708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1954440" indent="-21708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1954440" indent="-21708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1954440" indent="-21708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8A_xMSCZ8SQ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coolmathsgames.us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oolmathsgames.us/" TargetMode="External"/><Relationship Id="rId2" Type="http://schemas.openxmlformats.org/officeDocument/2006/relationships/hyperlink" Target="http://www.arcademicskillbuilders.com/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611280" y="1628640"/>
            <a:ext cx="8532720" cy="1368720"/>
          </a:xfrm>
          <a:prstGeom prst="rect">
            <a:avLst/>
          </a:prstGeom>
          <a:solidFill>
            <a:srgbClr val="51358c"/>
          </a:solidFill>
          <a:ln w="25560">
            <a:solidFill>
              <a:srgbClr val="3924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280" y="981000"/>
            <a:ext cx="8280360" cy="21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T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gital Mathematics Games in Education</a:t>
            </a:r>
            <a:endParaRPr b="0" lang="en-US" sz="28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95280" y="6161040"/>
            <a:ext cx="604836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TT" sz="1800" spc="-1" strike="noStrike">
                <a:solidFill>
                  <a:srgbClr val="262626"/>
                </a:solidFill>
                <a:latin typeface="Arial"/>
              </a:rPr>
              <a:t>Sandra Figaro Henr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1800" spc="-1" strike="noStrike">
                <a:solidFill>
                  <a:srgbClr val="330066"/>
                </a:solidFill>
                <a:latin typeface="Impact"/>
              </a:rPr>
              <a:t>School of Education, UW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7" name="Content Placeholder 10" descr="UWI-logo1.jpg"/>
          <p:cNvPicPr/>
          <p:nvPr/>
        </p:nvPicPr>
        <p:blipFill>
          <a:blip r:embed="rId1"/>
          <a:stretch/>
        </p:blipFill>
        <p:spPr>
          <a:xfrm>
            <a:off x="0" y="0"/>
            <a:ext cx="68436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8560" y="364464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ture researc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44120" y="2708280"/>
            <a:ext cx="7643880" cy="34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TT" sz="2800" spc="-1" strike="noStrike">
                <a:solidFill>
                  <a:srgbClr val="4d4d4d"/>
                </a:solidFill>
                <a:latin typeface="Arial"/>
              </a:rPr>
              <a:t>Thank you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TT" sz="2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TT" sz="3600" spc="-1" strike="noStrike">
                <a:solidFill>
                  <a:srgbClr val="ffffff"/>
                </a:solidFill>
                <a:latin typeface="Arial"/>
              </a:rPr>
              <a:t>The Context</a:t>
            </a: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82184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000" y="2205000"/>
            <a:ext cx="821844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400" spc="-1" strike="noStrike">
                <a:solidFill>
                  <a:srgbClr val="4d4d4d"/>
                </a:solidFill>
                <a:latin typeface="Arial"/>
              </a:rPr>
              <a:t>The</a:t>
            </a:r>
            <a:r>
              <a:rPr b="0" i="1" lang="en-TT" sz="2400" spc="-1" strike="noStrike">
                <a:solidFill>
                  <a:srgbClr val="4d4d4d"/>
                </a:solidFill>
                <a:latin typeface="Arial"/>
              </a:rPr>
              <a:t>  New Media Consortium, NMC Horizon Report  2012 K-12 Edition </a:t>
            </a:r>
            <a:r>
              <a:rPr b="0" lang="en-TT" sz="2400" spc="-1" strike="noStrike">
                <a:solidFill>
                  <a:srgbClr val="4d4d4d"/>
                </a:solidFill>
                <a:latin typeface="Arial"/>
              </a:rPr>
              <a:t>is a collaborative research effort between the NMC, the Consortium of School Networking (CoSN), and the International Society for Technology in Education (ISTE).  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400" spc="-1" strike="noStrike">
                <a:solidFill>
                  <a:srgbClr val="4d4d4d"/>
                </a:solidFill>
                <a:latin typeface="Arial"/>
              </a:rPr>
              <a:t>The </a:t>
            </a:r>
            <a:r>
              <a:rPr b="0" i="1" lang="en-TT" sz="2400" spc="-1" strike="noStrike">
                <a:solidFill>
                  <a:srgbClr val="4d4d4d"/>
                </a:solidFill>
                <a:latin typeface="Arial"/>
              </a:rPr>
              <a:t>NMC Horizon Report</a:t>
            </a:r>
            <a:r>
              <a:rPr b="0" lang="en-TT" sz="2400" spc="-1" strike="noStrike">
                <a:solidFill>
                  <a:srgbClr val="4d4d4d"/>
                </a:solidFill>
                <a:latin typeface="Arial"/>
              </a:rPr>
              <a:t> series discusses the top emerging technologies, trends, and challenge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TT" sz="3600" spc="-1" strike="noStrike">
                <a:solidFill>
                  <a:srgbClr val="ffffff"/>
                </a:solidFill>
                <a:latin typeface="Arial"/>
              </a:rPr>
              <a:t>The Context</a:t>
            </a: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821844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The Horizon Repor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6840" y="2174760"/>
            <a:ext cx="821844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400" spc="-1" strike="noStrike">
                <a:solidFill>
                  <a:srgbClr val="4d4d4d"/>
                </a:solidFill>
                <a:latin typeface="Arial"/>
              </a:rPr>
              <a:t>Horizon Report by leaders in education and technology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400" spc="-1" strike="noStrike">
                <a:solidFill>
                  <a:srgbClr val="4d4d4d"/>
                </a:solidFill>
                <a:latin typeface="Arial"/>
              </a:rPr>
              <a:t>Training in digital literacy skills and techniques is rare in teacher education and school district professional development program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400" spc="-1" strike="noStrike">
                <a:solidFill>
                  <a:srgbClr val="4d4d4d"/>
                </a:solidFill>
                <a:latin typeface="Arial"/>
              </a:rPr>
              <a:t>Digital media literacy  is not the norm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en-TT" sz="2400" spc="-1" strike="noStrike">
                <a:solidFill>
                  <a:srgbClr val="4d4d4d"/>
                </a:solidFill>
                <a:latin typeface="Arial"/>
              </a:rPr>
              <a:t>“</a:t>
            </a:r>
            <a:r>
              <a:rPr b="1" lang="en-TT" sz="2400" spc="-1" strike="noStrike">
                <a:solidFill>
                  <a:srgbClr val="4d4d4d"/>
                </a:solidFill>
                <a:latin typeface="Arial"/>
              </a:rPr>
              <a:t>Digital literacy is less about tools and more about thinking.” Horizon Report 2012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9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TT" sz="9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TT" sz="1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youtube.com/watch?v=8A_xMSCZ8SQ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TT" sz="3600" spc="-1" strike="noStrike">
                <a:solidFill>
                  <a:srgbClr val="ffffff"/>
                </a:solidFill>
                <a:latin typeface="Arial"/>
              </a:rPr>
              <a:t>Key Trends</a:t>
            </a: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8000" y="2174760"/>
            <a:ext cx="821844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000" spc="-1" strike="noStrike">
                <a:solidFill>
                  <a:srgbClr val="4d4d4d"/>
                </a:solidFill>
                <a:latin typeface="Arial"/>
              </a:rPr>
              <a:t>21</a:t>
            </a:r>
            <a:r>
              <a:rPr b="0" lang="en-TT" sz="2000" spc="-1" strike="noStrike" baseline="30000">
                <a:solidFill>
                  <a:srgbClr val="4d4d4d"/>
                </a:solidFill>
                <a:latin typeface="Arial"/>
              </a:rPr>
              <a:t>st</a:t>
            </a:r>
            <a:r>
              <a:rPr b="0" lang="en-TT" sz="2000" spc="-1" strike="noStrike">
                <a:solidFill>
                  <a:srgbClr val="4d4d4d"/>
                </a:solidFill>
                <a:latin typeface="Arial"/>
              </a:rPr>
              <a:t> Century students expect to be able to learn, study  and work whenever and wherever they want to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000" spc="-1" strike="noStrike">
                <a:solidFill>
                  <a:srgbClr val="4d4d4d"/>
                </a:solidFill>
                <a:latin typeface="Arial"/>
              </a:rPr>
              <a:t>The technologies we use are increasingly cloud-based, and our notions of IT support are decentralized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000" spc="-1" strike="noStrike">
                <a:solidFill>
                  <a:srgbClr val="4d4d4d"/>
                </a:solidFill>
                <a:latin typeface="Arial"/>
              </a:rPr>
              <a:t>The  academic environment is increasingly collaborative, driving changes in the way students’ projects are structured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000" spc="-1" strike="noStrike">
                <a:solidFill>
                  <a:srgbClr val="4d4d4d"/>
                </a:solidFill>
                <a:latin typeface="Arial"/>
              </a:rPr>
              <a:t>The abundance of resources and relationships made easily accessible via the Internet is increasingly challenging us to revisit our roles as educators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000" spc="-1" strike="noStrike">
                <a:solidFill>
                  <a:srgbClr val="4d4d4d"/>
                </a:solidFill>
                <a:latin typeface="Arial"/>
              </a:rPr>
              <a:t>Education paradigms are shifting to include – ubiquitous learning: online learning, hybrid learning and collaborative models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6" name="AutoShape 2"/>
          <p:cNvSpPr/>
          <p:nvPr/>
        </p:nvSpPr>
        <p:spPr>
          <a:xfrm>
            <a:off x="63360" y="-446040"/>
            <a:ext cx="1924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77151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TT" sz="3600" spc="-1" strike="noStrike">
                <a:solidFill>
                  <a:srgbClr val="ffffff"/>
                </a:solidFill>
                <a:latin typeface="Arial"/>
              </a:rPr>
              <a:t>Role and Benefits of</a:t>
            </a:r>
            <a:br>
              <a:rPr sz="3600"/>
            </a:br>
            <a:r>
              <a:rPr b="1" lang="en-TT" sz="3600" spc="-1" strike="noStrike">
                <a:solidFill>
                  <a:srgbClr val="ffffff"/>
                </a:solidFill>
                <a:latin typeface="Arial"/>
              </a:rPr>
              <a:t> Mathematics Games</a:t>
            </a: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413000"/>
            <a:ext cx="83628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1800" spc="-1" strike="noStrike">
                <a:solidFill>
                  <a:srgbClr val="4d4d4d"/>
                </a:solidFill>
                <a:latin typeface="Arial"/>
              </a:rPr>
              <a:t>Fun:  Practice basic details of arithmetic.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TT" sz="1800" spc="-1" strike="noStrike">
                <a:solidFill>
                  <a:srgbClr val="4d4d4d"/>
                </a:solidFill>
                <a:latin typeface="Arial"/>
              </a:rPr>
              <a:t>Solving Problems: Act in response to their adversary's moves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TT" sz="1800" spc="-1" strike="noStrike">
                <a:solidFill>
                  <a:srgbClr val="4d4d4d"/>
                </a:solidFill>
                <a:latin typeface="Arial"/>
              </a:rPr>
              <a:t>Strategising: Utilizing video games for math enable pupils to strategize their moves and make use of their know-how of maths to emerge victorious in the video games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TT" sz="1800" spc="-1" strike="noStrike">
                <a:solidFill>
                  <a:srgbClr val="4d4d4d"/>
                </a:solidFill>
                <a:latin typeface="Arial"/>
              </a:rPr>
              <a:t>Social Skills: Cope up with genuine-everyday group life scenarios.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TT" sz="1800" spc="-1" strike="noStrike">
                <a:solidFill>
                  <a:srgbClr val="4d4d4d"/>
                </a:solidFill>
                <a:latin typeface="Arial"/>
              </a:rPr>
              <a:t>Better Results:  Students interact to function in team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TT" sz="1800" spc="-1" strike="noStrike">
                <a:solidFill>
                  <a:srgbClr val="4d4d4d"/>
                </a:solidFill>
                <a:latin typeface="Arial"/>
              </a:rPr>
              <a:t>Positivity: Establish a positive outlook, without anxiety  towards an issue.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TT" sz="1800" spc="-1" strike="noStrike">
                <a:solidFill>
                  <a:srgbClr val="4d4d4d"/>
                </a:solidFill>
                <a:latin typeface="Arial"/>
              </a:rPr>
              <a:t>A variety of Levels: These allow for children to develop when passing or conquering  one stage soon after one more. A child might recognize a concept the very first time she plays the game. As time passes, the concept is even greater recognized. She may possibly consolidate ideas that have been learned earlier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TT" sz="1800" spc="-1" strike="noStrike">
                <a:solidFill>
                  <a:srgbClr val="4d4d4d"/>
                </a:solidFill>
                <a:latin typeface="Arial"/>
              </a:rPr>
              <a:t>Independence:  Students reading through the guidelines of the game is all the advice he needs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1800" spc="-1" strike="noStrike">
                <a:solidFill>
                  <a:srgbClr val="4d4d4d"/>
                </a:solidFill>
                <a:latin typeface="Arial"/>
              </a:rPr>
              <a:t>Evaluation: The finest element about learning via video games is the course of action of evaluation. </a:t>
            </a:r>
            <a:r>
              <a:rPr b="0" lang="en-TT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cool maths games</a:t>
            </a:r>
            <a:r>
              <a:rPr b="0" lang="en-TT" sz="1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TT" sz="3600" spc="-1" strike="noStrike">
                <a:solidFill>
                  <a:srgbClr val="ffffff"/>
                </a:solidFill>
                <a:latin typeface="Arial"/>
              </a:rPr>
              <a:t>The Landscape</a:t>
            </a: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26366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TT" sz="2400" spc="-1" strike="noStrike">
                <a:solidFill>
                  <a:srgbClr val="4d4d4d"/>
                </a:solidFill>
                <a:latin typeface="Arial"/>
              </a:rPr>
              <a:t>Time-to-Adoption Horizon: One Year or Les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16000" y="2349360"/>
            <a:ext cx="4041720" cy="92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17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TT" sz="2400" spc="-1" strike="noStrike">
                <a:solidFill>
                  <a:srgbClr val="4d4d4d"/>
                </a:solidFill>
                <a:latin typeface="Arial"/>
              </a:rPr>
              <a:t>Time-to-Adoption Horizon: Two to Three Year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44720" y="3573000"/>
            <a:ext cx="404172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400" spc="-1" strike="noStrike">
                <a:solidFill>
                  <a:srgbClr val="4d4d4d"/>
                </a:solidFill>
                <a:latin typeface="Arial"/>
              </a:rPr>
              <a:t>Game-Based Learning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400" spc="-1" strike="noStrike">
                <a:solidFill>
                  <a:srgbClr val="4d4d4d"/>
                </a:solidFill>
                <a:latin typeface="Arial"/>
              </a:rPr>
              <a:t>Personal Learning Environment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400" spc="-1" strike="noStrike">
                <a:solidFill>
                  <a:srgbClr val="4d4d4d"/>
                </a:solidFill>
                <a:latin typeface="Arial"/>
              </a:rPr>
              <a:t>Open Conten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AutoShape 2"/>
          <p:cNvSpPr/>
          <p:nvPr/>
        </p:nvSpPr>
        <p:spPr>
          <a:xfrm>
            <a:off x="63360" y="-446040"/>
            <a:ext cx="1924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8000" y="3573000"/>
            <a:ext cx="4041720" cy="26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400" spc="-1" strike="noStrike">
                <a:solidFill>
                  <a:srgbClr val="4d4d4d"/>
                </a:solidFill>
                <a:latin typeface="Arial"/>
              </a:rPr>
              <a:t>Collaborative Environment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400" spc="-1" strike="noStrike">
                <a:solidFill>
                  <a:srgbClr val="4d4d4d"/>
                </a:solidFill>
                <a:latin typeface="Arial"/>
              </a:rPr>
              <a:t>Mobiles and App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400" spc="-1" strike="noStrike">
                <a:solidFill>
                  <a:srgbClr val="4d4d4d"/>
                </a:solidFill>
                <a:latin typeface="Arial"/>
              </a:rPr>
              <a:t>Tablet Computing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400" spc="-1" strike="noStrike">
                <a:solidFill>
                  <a:srgbClr val="4d4d4d"/>
                </a:solidFill>
                <a:latin typeface="Arial"/>
              </a:rPr>
              <a:t>Cloud Computing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TT" sz="3600" spc="-1" strike="noStrike">
                <a:solidFill>
                  <a:srgbClr val="ffffff"/>
                </a:solidFill>
                <a:latin typeface="Arial"/>
              </a:rPr>
              <a:t>The Landscape</a:t>
            </a: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3640" y="2133360"/>
            <a:ext cx="48956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TT" sz="2400" spc="-1" strike="noStrike">
                <a:solidFill>
                  <a:srgbClr val="4d4d4d"/>
                </a:solidFill>
                <a:latin typeface="Arial"/>
              </a:rPr>
              <a:t>Time-to-Adoption Horizon: Four to Five Year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400" spc="-1" strike="noStrike">
                <a:solidFill>
                  <a:srgbClr val="4d4d4d"/>
                </a:solidFill>
                <a:latin typeface="Arial"/>
              </a:rPr>
              <a:t>Learning Analytic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400" spc="-1" strike="noStrike">
                <a:solidFill>
                  <a:srgbClr val="4d4d4d"/>
                </a:solidFill>
                <a:latin typeface="Arial"/>
              </a:rPr>
              <a:t>Personal Learning Environment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400" spc="-1" strike="noStrike">
                <a:solidFill>
                  <a:srgbClr val="4d4d4d"/>
                </a:solidFill>
                <a:latin typeface="Arial"/>
              </a:rPr>
              <a:t>Augmented Reality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TT" sz="2400" spc="-1" strike="noStrike">
                <a:solidFill>
                  <a:srgbClr val="4d4d4d"/>
                </a:solidFill>
                <a:latin typeface="Arial"/>
              </a:rPr>
              <a:t>Natural User Interface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TT" sz="2400" spc="-1" strike="noStrike">
                <a:solidFill>
                  <a:srgbClr val="4d4d4d"/>
                </a:solidFill>
                <a:latin typeface="Arial"/>
              </a:rPr>
              <a:t>Semantic Application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400" spc="-1" strike="noStrike">
                <a:solidFill>
                  <a:srgbClr val="4d4d4d"/>
                </a:solidFill>
                <a:latin typeface="Arial"/>
              </a:rPr>
              <a:t>Tools for Assessing 21st Century Learning Skills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08" name="Picture 2" descr="C:\Users\sfigaro\Pictures\MLearninPresentation\2011-10-06 19.44.23.jpg"/>
          <p:cNvPicPr/>
          <p:nvPr/>
        </p:nvPicPr>
        <p:blipFill>
          <a:blip r:embed="rId1"/>
          <a:stretch/>
        </p:blipFill>
        <p:spPr>
          <a:xfrm>
            <a:off x="5559480" y="1773360"/>
            <a:ext cx="3108240" cy="92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95280" y="10584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TT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94920" y="2060280"/>
            <a:ext cx="4608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Math Games for all ages: 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coolmathsgames.us/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arcademicskillbuilders.com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000" spc="-1" strike="noStrike">
                <a:solidFill>
                  <a:srgbClr val="4d4d4d"/>
                </a:solidFill>
                <a:latin typeface="Arial"/>
              </a:rPr>
              <a:t>http://www.bbc.co.uk/bitesize/ks2/maths/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000" spc="-1" strike="noStrike">
                <a:solidFill>
                  <a:srgbClr val="4d4d4d"/>
                </a:solidFill>
                <a:latin typeface="Arial"/>
              </a:rPr>
              <a:t>https://www.youtube.com/watch?v=v6oJ5rw9my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000" spc="-1" strike="noStrike">
                <a:solidFill>
                  <a:srgbClr val="4d4d4d"/>
                </a:solidFill>
                <a:latin typeface="Arial"/>
              </a:rPr>
              <a:t>https://www.youtube.com/watch?v=q5IzEnYXJt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000" spc="-1" strike="noStrike">
                <a:solidFill>
                  <a:srgbClr val="4d4d4d"/>
                </a:solidFill>
                <a:latin typeface="Arial"/>
              </a:rPr>
              <a:t>http://www.simcity.com/en_US/game/overvie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000" spc="-1" strike="noStrike">
                <a:solidFill>
                  <a:srgbClr val="4d4d4d"/>
                </a:solidFill>
                <a:latin typeface="Arial"/>
              </a:rPr>
              <a:t>http://minecraftforfreeonline.net/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11" name="Picture 3" descr="C:\Users\sfigaro\Pictures\MLearninPresentation\GirlOnPhoneGuyByComputer.jpg"/>
          <p:cNvPicPr/>
          <p:nvPr/>
        </p:nvPicPr>
        <p:blipFill>
          <a:blip r:embed="rId3"/>
          <a:stretch/>
        </p:blipFill>
        <p:spPr>
          <a:xfrm>
            <a:off x="5132520" y="1914480"/>
            <a:ext cx="3389040" cy="907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C:\Users\sfigaro\AppData\Local\Microsoft\Windows\Temporary Internet Files\Low\Content.IE5\KVQQUW72\2011-10-06 19.51.50[1].jpg"/>
          <p:cNvPicPr/>
          <p:nvPr/>
        </p:nvPicPr>
        <p:blipFill>
          <a:blip r:embed="rId1"/>
          <a:stretch/>
        </p:blipFill>
        <p:spPr>
          <a:xfrm>
            <a:off x="5059440" y="2279520"/>
            <a:ext cx="3560760" cy="71755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250560" y="2277720"/>
            <a:ext cx="453708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ECCE-  http://www.prometheanplanet.com/en-us/Search/resources/resource-type/games/grade/early-childhood-pre-school%e2%80%93kindergarten/subject-area/math/country/united-states/language/english/?SortField=relevance&amp;RecsPerPage=12&amp;ViewType=GridView 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Secondary-  http://www.prometheanplanet.com/en-us/Search/resources/resource-type/games/grade/11-12/subject-area/math/country/unitedstates/language/english/?SortField=relevance&amp;RecsPerPage=12&amp;ViewType=GridView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" name="Title 1"/>
          <p:cNvSpPr/>
          <p:nvPr/>
        </p:nvSpPr>
        <p:spPr>
          <a:xfrm>
            <a:off x="2124000" y="836640"/>
            <a:ext cx="65534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rch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900"/>
            </a:br>
            <a:endParaRPr b="0" lang="en-US" sz="27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23:46:23Z</dcterms:created>
  <dc:creator>sfigaro</dc:creator>
  <dc:description/>
  <dc:language>en-US</dc:language>
  <cp:lastModifiedBy>soestaff</cp:lastModifiedBy>
  <dcterms:modified xsi:type="dcterms:W3CDTF">2012-06-22T15:16:01Z</dcterms:modified>
  <cp:revision>89</cp:revision>
  <dc:subject/>
  <dc:title>Slide 1</dc:title>
</cp:coreProperties>
</file>